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DFB-0325-4386-A3B3-A5FC385F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170-9603-477A-B3EB-4A16FC09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365-BDAC-4201-B501-D9112C22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0AC-3A86-495B-A567-64798092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F900-BBB6-4588-9EF5-5EF0FBC4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45AD-E093-4A25-8E6B-B10F7431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3D57-70C6-48D0-BD34-E6CB6950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6482-A3D9-4B9E-BC89-216E20CE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AF30-B0B4-4929-A770-A9EDFD94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62D7-5EB7-4F1D-BA79-048ABF12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1B3E-0FE5-468B-907E-B0791FE7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4B2-C8CB-4560-A538-8263024D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8C77-D246-43B9-B6E4-35B4E8DD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71FE-C4B4-4E00-9DDF-3999FD5A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F3E2-76F8-48E4-8F06-E6FEDC81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5EAD-5D4E-487C-9997-0E1B0A38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1433-EC0D-434E-A419-32143106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838-6005-4B18-8C41-37286960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4D3-EE8D-4422-882C-C9B8468F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7E3-BEA1-459D-BAFA-77B46D98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FF2-C912-479A-AF4C-C95B31F5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62B-3D25-436A-8F9B-F52BC107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B38-FC8B-404D-A1E4-BC8F837C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8E6-D4E8-4526-9D5C-75F3D911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A560-0280-4AE4-B470-4A21E778636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DE0C-5D93-49FC-A48B-BF9488C0DF1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brança pelo uso dos recursos híd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920" y="3728880"/>
            <a:ext cx="705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osta aprovada pelos Comitês PCJ em 21/10/2005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060640"/>
            <a:ext cx="835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ício: a partir de 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de janeiro de 2006, com Plano e Agênci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odos usos significantes: CT-OL usos insignificant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gressividade: 60% (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75% (2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100% (3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Validade da proposta: 2 an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eneficiários: tod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ndicionantes para acesso e indic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cesso de regularização dos usos e campanha de divulg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060640"/>
            <a:ext cx="83516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ntribuição Regional Voluntária - CRV”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FEHIDR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pontuação extra: PE = PE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max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PE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extingue-se com a cobrança estadu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rreção de valores e compensação no ano posterio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gamento com atraso: multa de 2% e SELIC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Aplicação $: Programas do Plano e regras de hierarquiz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2460600"/>
                <a:ext cx="2160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órmu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obrança será feita levando-se em consideração os seguintes aspecto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o d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ca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a e transposta para outras bacias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trans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lançado n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lanç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onsumido do corpo hídrico (diferença entre o volume captado e o lançado), que será denotado por “Qcons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carga orgânica lançada no corpo hídrico, denotada por “CO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DBO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le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060640"/>
            <a:ext cx="8496360" cy="36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sobre a captação: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outorga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medição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e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classe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sobre o consumo: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retorno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p/ irrigação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CT-Rur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pela poluição: DBO (2 anos), após: acrescentar carga inorgânic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de PCHs: Energia: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nominal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gerada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 0,01T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Total: </a:t>
            </a:r>
            <a:r>
              <a:rPr b="0" lang="el-GR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Σ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  <a:ea typeface="Times New Roman"/>
              </a:rPr>
              <a:t>cobranças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  <a:ea typeface="Times New Roman"/>
              </a:rPr>
              <a:t>Gestão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= 1 ou 0 (definido pelos Comitês PCJ = f(garantia de retorno do $)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le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060640"/>
            <a:ext cx="8351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rcelas e valor mínimo: R$ 20,00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Abatimento do Valor devido a CO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ações do Plano de Bacia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Abatimento do valor devido pelo setor rural: CT-Rural p/ definir ações passíveis de abatiment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Regularização de débit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lores dos PUB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8839440" cy="3795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stimativa preliminar de arrecada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05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80360" y="5084640"/>
            <a:ext cx="1763640" cy="103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64216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1:28:47Z</dcterms:created>
  <dc:creator>lmoretti</dc:creator>
  <dc:description/>
  <dc:language>en-US</dc:language>
  <cp:lastModifiedBy>Windows</cp:lastModifiedBy>
  <dcterms:modified xsi:type="dcterms:W3CDTF">2005-11-06T19:30:15Z</dcterms:modified>
  <cp:revision>15</cp:revision>
  <dc:subject/>
  <dc:title>Cobrança pelo uso das águas</dc:title>
</cp:coreProperties>
</file>